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A09B4BE8-3BD0-488A-AFC5-942641FD9661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96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FB8B86B0-6111-4B03-96AC-2F1EB5BB6B2C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8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68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134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FB6271E4-C706-482D-A891-E15885556D00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ftr" idx="9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75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DE0E658D-D4F7-4A9C-BDB0-F374422883A7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10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7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8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1523880" y="603576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629400" y="626436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12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2A6BF9E1-FC87-4DE4-AEE6-329CA936CE27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319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2A9F0679-F524-4B0A-BA38-74862E3B344C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2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426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2C50D1E3-2249-4A41-90F4-D9D0665FBBE3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533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3182F6DA-38F7-44B3-B7B0-39C31935318F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4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640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14D02C1B-E6C5-4F65-8A4F-9D3C27E852E8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ftr" idx="5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74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49A56FDB-6B9F-4B2D-9A4B-CEEC985ACA89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ftr" idx="6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854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4B9D1A74-C94B-47F8-998A-599C7CCA99FC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7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bankrate.com/calculators/auto/auto-loan-calculator.aspx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ankrate.com/calculators/auto/auto-loan-calculator.aspx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Shopping for an Automobile Loan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What Do I Need to Know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3" name="Picture 5" descr="TN00552_"/>
          <p:cNvPicPr/>
          <p:nvPr/>
        </p:nvPicPr>
        <p:blipFill>
          <a:blip r:embed="rId1"/>
          <a:stretch/>
        </p:blipFill>
        <p:spPr>
          <a:xfrm>
            <a:off x="1447920" y="4267080"/>
            <a:ext cx="3362040" cy="1495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6"/>
          <p:cNvSpPr/>
          <p:nvPr/>
        </p:nvSpPr>
        <p:spPr>
          <a:xfrm>
            <a:off x="5189040" y="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7720" y="8535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he Truth in Lending Ac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ree basic rules for lend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cannot advertise a good deal which is not available to all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vertisements must include all or none of the ter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more than 4 installments are required to pay for the good or service, the agreement must say “The cost of credit is included in the price quoted for goods and services”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61760" y="312840"/>
            <a:ext cx="83818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pperplate Gothic Light"/>
              </a:rPr>
              <a:t>The Truth in Lending Act continued</a:t>
            </a:r>
            <a:endParaRPr b="1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must disclose to consum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terest rate expressed as the AP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otal finance char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llows consumers to easily compare credit off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What’s the Real Price?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309" name="Picture 6" descr="j0212735"/>
          <p:cNvPicPr/>
          <p:nvPr/>
        </p:nvPicPr>
        <p:blipFill>
          <a:blip r:embed="rId1"/>
          <a:stretch/>
        </p:blipFill>
        <p:spPr>
          <a:xfrm>
            <a:off x="5105520" y="3505320"/>
            <a:ext cx="1758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of a Loa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Negotiated Pric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ce being paid for the automobile agreed upon by the seller and buy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money being paid for the automobile at time of purchase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requir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rade-I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money received for trading in an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rade-in amount is subtracted from the negotiated price of the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the loan for the automobile after subtracting the down payment and/or trade-in price from the negotiated price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ithout interest and fe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nual Percentage Rate (APR)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easure of the cost of credit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ime Perio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time the loan will be repai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expressed in month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Cost of the Loa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otal of the principal loan amount, interest paid, and other fe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Purchasing Cos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otal of the down payment, trade-in value, and tot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Rules of Thumb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larger the down payment on an automobile, the lower the principal loan amount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longer the time period of the loan, the smaller the payments. However, more interest is paid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higher the APR, the more interest is paid and the larger the total loan amount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22" name="Picture 7" descr="BS00923_[1]"/>
          <p:cNvPicPr/>
          <p:nvPr/>
        </p:nvPicPr>
        <p:blipFill>
          <a:blip r:embed="rId1"/>
          <a:stretch/>
        </p:blipFill>
        <p:spPr>
          <a:xfrm>
            <a:off x="1600200" y="3276720"/>
            <a:ext cx="2289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ree variables are required to calculate the cost of a loan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R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ime period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utomobile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2960" y="2209680"/>
            <a:ext cx="5564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most expensive purchase for most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urchased with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an / credit – very comm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7" name="Picture 7" descr="j0212833"/>
          <p:cNvPicPr/>
          <p:nvPr/>
        </p:nvPicPr>
        <p:blipFill>
          <a:blip r:embed="rId1"/>
          <a:stretch/>
        </p:blipFill>
        <p:spPr>
          <a:xfrm>
            <a:off x="6172200" y="2666880"/>
            <a:ext cx="1809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912600" y="205740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Joe has decided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egotiated price - $7,500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wn payment - $2,500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R – 8%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ime Period – 3 yea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it really going to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- $2,500 = $5,000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5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5,000 over 3 years at 8% APR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Step 1: Calculate monthly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Go to the financial calculator for auto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Centaur"/>
                <a:hlinkClick r:id="rId1"/>
              </a:rPr>
              <a:t>http://www.bankrate.com/calculators/auto/auto-loan-calculator.aspx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Key in the following variabl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amount = $5,000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term = 3 years or 36 months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rate = 3 years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start date: use today’s date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ess calculate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Auto loan monthly payment = $156.68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ing the Cos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91404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156.68 * 36 = $5,640.55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Monthly payment * Number of payments = Total  loan amount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5,640.55 – 5,000.00 = $640.55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What’s the Real cost?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loan amount = $5,640.55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purchasing cost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tal loan amount + 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5,640.55 + $2,500.00 = $8,140.55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779400" y="1522440"/>
            <a:ext cx="7678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Down Payment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down payment amount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35" name="Picture 9" descr="j0250658"/>
          <p:cNvPicPr/>
          <p:nvPr/>
        </p:nvPicPr>
        <p:blipFill>
          <a:blip r:embed="rId1"/>
          <a:stretch/>
        </p:blipFill>
        <p:spPr>
          <a:xfrm>
            <a:off x="1523880" y="3581280"/>
            <a:ext cx="19908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own Paymen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alculate the cost of a $7,500 car with an 8% APR over 36 months (3 years)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1,000 down pa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$2,500 down pa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 monthly payments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much interest is paid?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the total purchasing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e with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$1,000 Down Paymen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$7,500 - $1,000 = $6,500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$6,500 over 3 years at 8% APR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1: Calculate monthly payment at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Centaur"/>
                <a:hlinkClick r:id="rId1"/>
              </a:rPr>
              <a:t>http://www.bankrate.com/calculators/auto/auto-loan-calculator.aspx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Principal loan amount:  6,500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ime period:  3 year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APR:  8 %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* 36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Monthly payment * Number of payments = Tot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 – $6,500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tep 3: Calculate total purchasing cost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 + $1,000 =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alculate with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$2,500 Down Paymen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$7,500 - $2,500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Negotiated price – Down payment = Princip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___________ </a:t>
            </a: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(principal loan amount) over 3 years at 8% APR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1: Calculate monthly payment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Principal loan amount:  ____________ 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ime period:  3 year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APR:  8 %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= </a:t>
            </a: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2: Calculate interest paid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 * 36 = __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Monthly payment * Number of payments = Total loan amoun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 – ____________ =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– Principal loan amount = Interest paid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Step 3: Calculate total purchasing cost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__________ + $2,500 =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spcBef>
                <a:spcPts val="32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own Paymen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#1 - $1,000 down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ncipal loan amount - 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Monthly payment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paid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Total purchasing cost - 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Example #2 - $2,500 down paymen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ncipal loan amount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Monthly payment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Interest paid - 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Total purchasing cost - ____________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ice Difference in Total purchasing costs- </a:t>
            </a:r>
            <a:r>
              <a:rPr b="0" i="1" lang="en-US" sz="2400" spc="-1" strike="noStrike">
                <a:solidFill>
                  <a:srgbClr val="000000"/>
                </a:solidFill>
                <a:latin typeface="Centaur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he higher the down payment, the lower the principal loan amount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52280" y="790920"/>
            <a:ext cx="883944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Copperplate Gothic Light"/>
              </a:rPr>
              <a:t>Annual Percentage Rate (APR)</a:t>
            </a:r>
            <a:endParaRPr b="1" lang="en-US" sz="5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APR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46" name="Picture 4" descr="DD00758_[1]"/>
          <p:cNvPicPr/>
          <p:nvPr/>
        </p:nvPicPr>
        <p:blipFill>
          <a:blip r:embed="rId1"/>
          <a:stretch/>
        </p:blipFill>
        <p:spPr>
          <a:xfrm>
            <a:off x="1371600" y="3429000"/>
            <a:ext cx="2209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Automobile Loans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289" name="Picture 6" descr="j0279106"/>
          <p:cNvPicPr/>
          <p:nvPr/>
        </p:nvPicPr>
        <p:blipFill>
          <a:blip r:embed="rId1"/>
          <a:stretch/>
        </p:blipFill>
        <p:spPr>
          <a:xfrm>
            <a:off x="4648320" y="3276720"/>
            <a:ext cx="28638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PR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alculate the cost of a $7,500 car with a $2,500 down payment over 36 months   (3 years) at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8% AP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10% AP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 monthly payments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much interest is paid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the total purchasing cost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PR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car with 8% APR, $2,500 Down payment, Time period 3 years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s - 156.6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Interest paid – 640.4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otal purchasing cost – 8140.48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7,500 car with 10% APR, $2,500 Down payment, Time period 3 years.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Monthly payments - 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Interest paid - _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aur"/>
              </a:rPr>
              <a:t>(Monthly payment * 36 – Principal loan amount = Interest paid)</a:t>
            </a:r>
            <a:endParaRPr b="0" lang="en-US" sz="14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-217080">
              <a:spcBef>
                <a:spcPts val="400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otal purchasing cost - ________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85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400" spc="-1" strike="noStrike">
              <a:solidFill>
                <a:srgbClr val="000000"/>
              </a:solidFill>
              <a:latin typeface="Centaur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Price Difference in total purchasing cost- _________________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he higher the APR, the more interest pai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779400" y="1522440"/>
            <a:ext cx="76788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Time Period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How does the cost change with different time periods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53" name="Picture 14" descr="j0188067[1]"/>
          <p:cNvPicPr/>
          <p:nvPr/>
        </p:nvPicPr>
        <p:blipFill>
          <a:blip r:embed="rId1"/>
          <a:stretch/>
        </p:blipFill>
        <p:spPr>
          <a:xfrm>
            <a:off x="1523880" y="3276720"/>
            <a:ext cx="2238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ime Period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alculate the cost of a $7,500 car with a $2,500 down payment with an 8% APR ov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36 months (3 years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60 months (5 years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What are the monthly payments? 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__________(36 months)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How much interest is paid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?____________(36 months) 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entaur"/>
              </a:rPr>
              <a:t>Monthly payment * 36 – Principal loan amount = Interest paid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aur"/>
              </a:rPr>
              <a:t>(Monthly payment * 60 – Principal loan amount = Interest paid)</a:t>
            </a: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What is the total purchasing cost? </a:t>
            </a: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___________(36 months) and __________(60 months)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aur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entaur"/>
              </a:rPr>
              <a:t>(Total loan amount + Down payment = Total purchasing cost)</a:t>
            </a: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Price difference in total purchasing cost -</a:t>
            </a:r>
            <a:endParaRPr b="0" lang="en-US" sz="1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2600" y="21337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mpare all offers and variables before signing an agreement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hanging a variable can either save the consumer money or he/she may end up paying much more than anticipated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58" name="Picture 8" descr="j0078625[1]"/>
          <p:cNvPicPr/>
          <p:nvPr/>
        </p:nvPicPr>
        <p:blipFill>
          <a:blip r:embed="rId1"/>
          <a:stretch/>
        </p:blipFill>
        <p:spPr>
          <a:xfrm>
            <a:off x="7467480" y="228600"/>
            <a:ext cx="596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uto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borrowed money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erms of the loan will va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Lend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a financial institution who offers loans to consume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Rating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evaluation of a person’s credit histo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ased on repayment patterns, prior credit usage, credit history, length of emplo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signer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– a person who guarantees the loan for the original borrow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sponsible for paying the debt back if the original borrower 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efa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orrower fails to make payments of principal or interest when due and has not met other requirements of the legal contrac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 cosigner may be required for a loan if the original borrower does not have a credit history or has a bad credit rating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mmon for parents to cosign for young ad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ured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requires a cosigner or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llateral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 loan with collateral means the lender has security interest in the property pledged as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mobile loans are secured because the automobile is typically the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the borrower fails to repay the loan, the lender can then seize the collateral by repossessing, or taking back, the proper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6478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Deal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mmercial Bank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avings and Loa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Un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Online lend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ife Insurance Poli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Insurance Compan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98" name="Picture 4" descr="j0185918"/>
          <p:cNvPicPr/>
          <p:nvPr/>
        </p:nvPicPr>
        <p:blipFill>
          <a:blip r:embed="rId1"/>
          <a:stretch/>
        </p:blipFill>
        <p:spPr>
          <a:xfrm>
            <a:off x="5410080" y="2895480"/>
            <a:ext cx="2210040" cy="15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Unions traditionally offer low AP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uto dealer financing may be easier, but not always the best dea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member – compare every variable to decide best option for consumer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sumer Righ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Truth in Lending Act - 1968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art of the Consumer Protection Ac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plies to all credit transact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rtgages, credit cards, loans, etc.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quires clear disclosure of key terms and all costs in lending agreement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03" name="Picture 4" descr="SY00570_[1]"/>
          <p:cNvPicPr/>
          <p:nvPr/>
        </p:nvPicPr>
        <p:blipFill>
          <a:blip r:embed="rId1"/>
          <a:stretch/>
        </p:blipFill>
        <p:spPr>
          <a:xfrm>
            <a:off x="7086600" y="2362320"/>
            <a:ext cx="14000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21:28Z</dcterms:created>
  <dc:creator>Spicher</dc:creator>
  <dc:description/>
  <dc:language>en-US</dc:language>
  <cp:lastModifiedBy>NHBOE</cp:lastModifiedBy>
  <dcterms:modified xsi:type="dcterms:W3CDTF">2012-03-05T12:22:22Z</dcterms:modified>
  <cp:revision>137</cp:revision>
  <dc:subject/>
  <dc:title>Shopping for a Car Loan</dc:title>
</cp:coreProperties>
</file>